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A904-CCA7-4FEA-99D3-FFC4CFBB2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1527-EF90-4784-AA92-BE64145D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A32C-D34D-4156-A5F1-49A180FFA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5A36-F476-4A26-BE04-7A5C9F8AE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21D2-7364-4E02-BA17-16DEC1B93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C327-B9B2-44B5-B4D3-B9A327A5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D231-4E0A-47FB-A786-404D326D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795D-66B0-4B09-8327-75707A7D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289E-AD45-4C41-B9DC-F5B19672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F049-9D8E-4EAF-85B8-D756A8CB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3866-9F58-4FF2-9BE6-D6899AA8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9D28-DA36-4255-9714-E7CD4F49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E97D-5F1E-4C86-A02D-D734C1DA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1EA3-1B03-45A9-9D6C-237D13A0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4569-6D33-49C5-A864-6180BA30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90F2-3463-4DEB-9197-B1A9A3947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7A38-4B9B-497D-B2B9-A6EE092D2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6E3B-6571-404A-AF75-8AF4A950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7575-D542-4770-ADD9-FF7A3B23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1876-5FAE-4FD1-9CA8-95972F34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082B-A5ED-4B9B-B077-4A0CF8FD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124A-931F-4F7F-899C-AF76A260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D22C-8280-4C4A-8A24-26796C94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F9CB-4256-4656-9402-BBFE3750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9853-5825-48F4-967A-5814E168E8A4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1A40-F7C0-4126-8759-C51C9CD087EC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Introductory Graphic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hapter Thre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43000" y="1676520"/>
            <a:ext cx="3276720" cy="2971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312408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0 degree   (3:00 o’clock posi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10666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90 degree (12:00 o’clock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971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18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51814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270 degree or 6:00 o’clock posi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6400800" y="456840"/>
            <a:ext cx="2742480" cy="24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685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100,200,200,150,180,9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1447920"/>
            <a:ext cx="1143000" cy="9144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57800" y="1447920"/>
            <a:ext cx="1066680" cy="83808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67080" y="1295280"/>
            <a:ext cx="33530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380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G.drawArc(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848720" y="380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181480" y="4419720"/>
            <a:ext cx="4114080" cy="213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495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10080" y="5562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OLORS   STANDARD 13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256 * 256  * 256    (Lots of possibl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lack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lue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ya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arkgra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gray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gree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lightgray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agent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range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ink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whit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ellow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g.setBackground(Color.lightgray) 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g.setColor.red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OLID FIGUR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llRec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llArc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llOv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Sequence of “Graphics” Apple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Import java.awt.*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import java applet.Apple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ublic class FirstShapes extends Applet {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ublic void paint (Graphics g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g.drawRect (30,30,80,40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g.drawOval(120,30,50,50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tColor(Color.black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llRect(30,100,80,40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drawLine (30,160,130,170)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drawArc (30,180,50,50,60,40)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llArc(120,180,50,50,60,40)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} }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Add some text…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G.drawString (“ Hello World “, 30, 40)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9880" y="34290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Horizontal  X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24480" y="3352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Y posi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4572000" y="2514240"/>
            <a:ext cx="1828800" cy="106668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553080" y="2438280"/>
            <a:ext cx="609840" cy="9907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oncatenation       +  operator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G.drawString(“Hi” + “There” + “Mike” ,100,100)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omments (Types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//    single line commen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/*    This i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n example of a multi line comment */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/**   Special JDK comment used for manual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not in J++ JBuilder     *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Some comments are required for this class (All programs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Your na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What function of progra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e course you are in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ther comments as needed to help explain logic of program OR add needed detai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// draws a stickma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// hea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//leg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//arm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omputer Graphic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ull motion pictures (“Star Wars”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nimated film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Virtual realit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Gam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mulators (air craft etc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A first Picture”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import java.awt.*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import java.applet.Apple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ublic class FirstLine extends Applet {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ublic void paint (Graphics g) {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g.drawLine (0,0,100,100);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}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Alter old HTML or Write New On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&lt;applet “code = FirstLine.class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an use same width and height…..&gt; &lt;/applet&gt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657600"/>
            <a:ext cx="0" cy="19810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3657600"/>
            <a:ext cx="43434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31240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0,30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5410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300,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100,10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934320" y="5181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300,33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3352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48006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ENDIN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3733920"/>
            <a:ext cx="1676520" cy="9144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6019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G.drawLine(0,0,100,100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g.drawLine(0,0,100,100)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“parameters”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doSomething( );   No paramet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 Paint Method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gniture Line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ublic void paint (Graphics g) {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981080" y="3657600"/>
            <a:ext cx="76320" cy="9907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666880" y="3809520"/>
            <a:ext cx="76320" cy="7621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581280" y="3733920"/>
            <a:ext cx="0" cy="9144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4495680" y="3733920"/>
            <a:ext cx="609840" cy="76176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5714640" y="3733920"/>
            <a:ext cx="304920" cy="76176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4952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uri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retur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657600" y="4876920"/>
            <a:ext cx="1219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Metho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10080" y="4800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yp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5880" y="4191120"/>
            <a:ext cx="1447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Variab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urity = who can “see” modify metho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void = return “nothing” this time…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aint = name of method (could be anything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(Graphics = type variab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g = name of particular variable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{    begin/start of content of metho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Methods for Draw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Rectangles, ovals, arcs, polyg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3D rectangl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illed shap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lyg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ounded corner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drawArc(    )    or drawOval, Rect,Li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drawArc   ( 6 parameters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X posi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Y posi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Width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Heigh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tarting point  (360 degree of Clock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otal Angle of Arc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0T14:50:50Z</dcterms:created>
  <dc:creator>Rod Farkas</dc:creator>
  <dc:description/>
  <dc:language>en-US</dc:language>
  <cp:lastModifiedBy>Rod Farkas</cp:lastModifiedBy>
  <dcterms:modified xsi:type="dcterms:W3CDTF">2001-11-03T01:01:05Z</dcterms:modified>
  <cp:revision>4</cp:revision>
  <dc:subject/>
  <dc:title>Introductory Graphics</dc:title>
</cp:coreProperties>
</file>